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F1FEF-3C55-47AA-BC23-A1AFEECDB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D5B3C-39B5-48F5-B36A-A2BC6CB15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C90EA-41E5-4B4E-A6E2-08092A9B1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0D5F4-7D7B-4A47-AB87-736993871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83FE6-68AF-43E9-B468-FB2831D71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1F3B1-9766-472D-858B-FC58C4F06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7BA77-1844-4CA1-9C3D-556B38EE8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0D4C5-7B79-4796-92D8-6FC503F22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B96A2-8A59-4D40-B825-C9237D4DB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85CB5-FEAF-4323-AC96-31EBB67BA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C27CC-2FEC-4EBC-AE41-449564B1E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0D18D-A7F3-483D-984F-B156B539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0FFEB-30CB-44EB-ABD0-83C3B3D50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8E604-0A35-4BE5-ACB2-EFA0B6338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2FAA4-D6B3-4C3F-8CE4-2A912D1A0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CF364-A1CB-492A-B09A-5571294F8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87FE0-0B22-4FBB-8935-508990203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7BF3D-6AEC-4363-8E26-8F6CDD815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337FC-6D54-4565-BD6A-47B318B6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33C29-8787-4367-A092-2D550B150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5E6C6-0D1D-4B04-9829-694CACFCE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89C3C-9B83-413D-8D40-F3171BAF9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E1335-E8F5-4944-8B77-9309444D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3893-45E7-4FCC-A106-6C5256E7E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7326-51C0-4436-A163-AC4266F5EA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C086-5044-478E-9022-8B1263D42C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uknow.gse.harvard.edu/"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COS Spring 2010</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Program Impr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ndardized Testing Video</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for measures: What do standardized tests really tell us about students and school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GSE Professor Daniel Koretz</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GSE Website:  Usable Knowledg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767ff"/>
                </a:solidFill>
                <a:uFillTx/>
                <a:latin typeface="Arial"/>
                <a:hlinkClick r:id="rId1"/>
              </a:rPr>
              <a:t>http://www.uknow.gse.harvard.edu</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our Frames to Think about Data</a:t>
            </a:r>
            <a:endParaRPr b="0" lang="en-US" sz="3200" spc="-1" strike="noStrike">
              <a:solidFill>
                <a:srgbClr val="000000"/>
              </a:solidFill>
              <a:latin typeface="Arial"/>
            </a:endParaRPr>
          </a:p>
        </p:txBody>
      </p:sp>
      <p:sp>
        <p:nvSpPr>
          <p:cNvPr id="11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Frame (Table Discussion)</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are the politics involved around data at your school?</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as created this political dynamic?</a:t>
            </a:r>
            <a:endParaRPr b="0" lang="en-US" sz="21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o are the political “data players”?</a:t>
            </a:r>
            <a:endParaRPr b="0" lang="en-US" sz="2100" spc="-1" strike="noStrike">
              <a:solidFill>
                <a:srgbClr val="000000"/>
              </a:solidFill>
              <a:latin typeface="Arial"/>
            </a:endParaRPr>
          </a:p>
          <a:p>
            <a:pPr lvl="3" marL="1600200" indent="-228600">
              <a:lnSpc>
                <a:spcPct val="9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a:t>
            </a:r>
            <a:endParaRPr b="0" lang="en-US" sz="1800" spc="-1" strike="noStrike">
              <a:solidFill>
                <a:srgbClr val="000000"/>
              </a:solidFill>
              <a:latin typeface="Arial"/>
            </a:endParaRPr>
          </a:p>
          <a:p>
            <a:pPr lvl="3" marL="1600200" indent="-228600">
              <a:lnSpc>
                <a:spcPct val="9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intendent</a:t>
            </a:r>
            <a:endParaRPr b="0" lang="en-US" sz="1800" spc="-1" strike="noStrike">
              <a:solidFill>
                <a:srgbClr val="000000"/>
              </a:solidFill>
              <a:latin typeface="Arial"/>
            </a:endParaRPr>
          </a:p>
          <a:p>
            <a:pPr lvl="3" marL="1600200" indent="-228600">
              <a:lnSpc>
                <a:spcPct val="9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a:t>
            </a:r>
            <a:endParaRPr b="0" lang="en-US" sz="1800" spc="-1" strike="noStrike">
              <a:solidFill>
                <a:srgbClr val="000000"/>
              </a:solidFill>
              <a:latin typeface="Arial"/>
            </a:endParaRPr>
          </a:p>
          <a:p>
            <a:pPr lvl="3" marL="1600200" indent="-228600">
              <a:lnSpc>
                <a:spcPct val="9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chools</a:t>
            </a:r>
            <a:endParaRPr b="0" lang="en-US" sz="1800" spc="-1" strike="noStrike">
              <a:solidFill>
                <a:srgbClr val="000000"/>
              </a:solidFill>
              <a:latin typeface="Arial"/>
            </a:endParaRPr>
          </a:p>
          <a:p>
            <a:pPr lvl="2" marL="1143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What strategies can we use to change some of these political dynamics?</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Who is focusing this political energy on student learning?</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Complex Change Diagram(Thousand &amp; Villa, 1995)</a:t>
            </a:r>
            <a:endParaRPr b="0" lang="en-US" sz="32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ee attachment I emailed you entitled Managing Complex Chan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but a good reminder of “the change steps”</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a:t>
            </a:r>
            <a:endParaRPr b="0" lang="en-US" sz="3200" spc="-1" strike="noStrike">
              <a:solidFill>
                <a:srgbClr val="000000"/>
              </a:solidFill>
              <a:latin typeface="Arial"/>
            </a:endParaRPr>
          </a:p>
        </p:txBody>
      </p:sp>
      <p:sp>
        <p:nvSpPr>
          <p:cNvPr id="122"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cial to any project or change working is a clear vision of where you want to go and what you want to achieve. You need to know what the forces or drivers are that are pushing this change. Obviously, a shared vision is better that one persons ideals, however most changes do require a champion to lead and drive the process. In project management terms this is the scope of the proje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74680"/>
            <a:ext cx="8001000" cy="262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pe of a project is one side of a triangle with Time and Cost. If you adjust the scope of your project then cost and time will also change. The bigger your goals (scope) the greater the cost or time. If you reduce the available funding then scope will have to change or the time to deliver the project product or change.</a:t>
            </a:r>
            <a:endParaRPr b="0" lang="en-US" sz="2400" spc="-1" strike="noStrike">
              <a:solidFill>
                <a:srgbClr val="000000"/>
              </a:solidFill>
              <a:latin typeface="Arial"/>
            </a:endParaRPr>
          </a:p>
        </p:txBody>
      </p:sp>
      <p:pic>
        <p:nvPicPr>
          <p:cNvPr id="124" name="" descr=""/>
          <p:cNvPicPr/>
          <p:nvPr/>
        </p:nvPicPr>
        <p:blipFill>
          <a:blip r:embed="rId1"/>
          <a:stretch/>
        </p:blipFill>
        <p:spPr>
          <a:xfrm>
            <a:off x="2286000" y="2819520"/>
            <a:ext cx="4648320" cy="403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Guiding Questions</a:t>
            </a:r>
            <a:endParaRPr b="0" lang="en-US" sz="3200" spc="-1" strike="noStrike">
              <a:solidFill>
                <a:srgbClr val="000000"/>
              </a:solidFill>
              <a:latin typeface="Arial"/>
            </a:endParaRPr>
          </a:p>
        </p:txBody>
      </p:sp>
      <p:sp>
        <p:nvSpPr>
          <p:cNvPr id="126"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guiding vis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rivers for this chang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provide valid goals and objectiv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se goals and objectiv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a shared vision? has everyone bought into thes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se goals achievable, measurable and manageabl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se "goal posts" shifting? Is the scope of the project, your goals and objectives, chang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a:t>
            </a:r>
            <a:endParaRPr b="0" lang="en-US" sz="3200" spc="-1" strike="noStrike">
              <a:solidFill>
                <a:srgbClr val="000000"/>
              </a:solidFill>
              <a:latin typeface="Arial"/>
            </a:endParaRPr>
          </a:p>
        </p:txBody>
      </p:sp>
      <p:sp>
        <p:nvSpPr>
          <p:cNvPr id="128"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st if not all changes will require a change or adjustment in the skill set of the people involved. This may be a major change or a minor one. For the change to be successful these must be considered. Starting with a skills audit is is a useful place to benchmark the change process</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are needed?</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do the staff/community have?</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will the staff/community be provided with?</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provide them?</a:t>
            </a:r>
            <a:endParaRPr b="0" lang="en-US" sz="2800" spc="-1" strike="noStrike">
              <a:solidFill>
                <a:srgbClr val="000000"/>
              </a:solidFill>
              <a:latin typeface="Arial"/>
            </a:endParaRPr>
          </a:p>
          <a:p>
            <a:pPr marL="315360" indent="-31536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upport systems, processes etc are staff/community provided with?</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s</a:t>
            </a:r>
            <a:endParaRPr b="0" lang="en-US" sz="3200" spc="-1" strike="noStrike">
              <a:solidFill>
                <a:srgbClr val="000000"/>
              </a:solidFill>
              <a:latin typeface="Arial"/>
            </a:endParaRPr>
          </a:p>
        </p:txBody>
      </p:sp>
      <p:sp>
        <p:nvSpPr>
          <p:cNvPr id="130" name="PlaceHolder 2"/>
          <p:cNvSpPr>
            <a:spLocks noGrp="1"/>
          </p:cNvSpPr>
          <p:nvPr>
            <p:ph/>
          </p:nvPr>
        </p:nvSpPr>
        <p:spPr>
          <a:xfrm>
            <a:off x="533520" y="1142640"/>
            <a:ext cx="8229600" cy="514044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rive a change people must want to change. The incentives can be positive (tangible or intangible incentives) or negative (change or your fired).</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incentives for adoption of the projec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y negative or positi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y:</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angible - financial, temporal, classroom facilities or</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tangible - recognition, prestige, personal achievement</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132"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sing change is often an issue, are the funds, resources, support etc available? Can I access them? What tools can we use?. Even if staff are trained on a resource and are keen with out easy access to the resource tool or technology, the skills will atrophy and motivation fad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to consider</a:t>
            </a:r>
            <a:endParaRPr b="0" lang="en-US" sz="2800" spc="-1" strike="noStrike">
              <a:solidFill>
                <a:srgbClr val="000000"/>
              </a:solidFill>
              <a:latin typeface="Arial"/>
            </a:endParaRPr>
          </a:p>
        </p:txBody>
      </p:sp>
      <p:sp>
        <p:nvSpPr>
          <p:cNvPr id="134" name="PlaceHolder 2"/>
          <p:cNvSpPr>
            <a:spLocks noGrp="1"/>
          </p:cNvSpPr>
          <p:nvPr>
            <p:ph/>
          </p:nvPr>
        </p:nvSpPr>
        <p:spPr>
          <a:xfrm>
            <a:off x="380880" y="914040"/>
            <a:ext cx="8229600" cy="46832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s we need?</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s that are availabl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y suitable and appropriat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y reusable, flexible, engaging, portabl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y distributed or accessed?</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through availability and distribution enhance integration and adoption?</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are you going to add?</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distribution of resources equitabl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resources suit the needs of all aspects of the community?</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CO (Total cost of ownership) for the resource?</a:t>
            </a:r>
            <a:endParaRPr b="0" lang="en-US" sz="2400" spc="-1" strike="noStrike">
              <a:solidFill>
                <a:srgbClr val="000000"/>
              </a:solidFill>
              <a:latin typeface="Arial"/>
            </a:endParaRPr>
          </a:p>
          <a:p>
            <a:pPr marL="312120" indent="-31212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vel of support is available?</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lcome Back</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h no” it is Chris agai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lt wanted to be with all of you, but he is on a well-deserved sabbatical this semester</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news to shar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mil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ool</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for the week</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9" name=""/>
          <p:cNvSpPr/>
          <p:nvPr/>
        </p:nvSpPr>
        <p:spPr>
          <a:xfrm>
            <a:off x="990720" y="-314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Plan</a:t>
            </a:r>
            <a:endParaRPr b="0" lang="en-US" sz="3200" spc="-1" strike="noStrike">
              <a:solidFill>
                <a:srgbClr val="000000"/>
              </a:solidFill>
              <a:latin typeface="Arial"/>
            </a:endParaRPr>
          </a:p>
        </p:txBody>
      </p:sp>
      <p:sp>
        <p:nvSpPr>
          <p:cNvPr id="136" name="PlaceHolder 2"/>
          <p:cNvSpPr>
            <a:spLocks noGrp="1"/>
          </p:cNvSpPr>
          <p:nvPr>
            <p:ph/>
          </p:nvPr>
        </p:nvSpPr>
        <p:spPr>
          <a:xfrm>
            <a:off x="457200" y="685800"/>
            <a:ext cx="8229600" cy="47592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tion plan?</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staff/community been involved in developing this? Have they bought into this?</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the stakeholders and what is there level of buy in</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valid given the rapidly changing nature of the ICT?</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measurable and manageable?</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has access to the plan? is it transparent and available?</a:t>
            </a:r>
            <a:endParaRPr b="0" lang="en-US" sz="2400" spc="-1" strike="noStrike">
              <a:solidFill>
                <a:srgbClr val="000000"/>
              </a:solidFill>
              <a:latin typeface="Arial"/>
            </a:endParaRPr>
          </a:p>
          <a:p>
            <a:pPr marL="294840" indent="-29484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should ask:</a:t>
            </a:r>
            <a:endParaRPr b="0" lang="en-US" sz="24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 What is happening?</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 When is it happening?</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 Who is doing it?</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4. Where is it happening?</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5. Why is it happening? (what are the drivers?)</a:t>
            </a:r>
            <a:endParaRPr b="0" lang="en-US" sz="2300" spc="-1" strike="noStrike">
              <a:solidFill>
                <a:srgbClr val="000000"/>
              </a:solidFill>
              <a:latin typeface="Arial"/>
            </a:endParaRPr>
          </a:p>
          <a:p>
            <a:pPr lvl="1" marL="639000" indent="-24552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6. How is it happening?</a:t>
            </a:r>
            <a:endParaRPr b="0" lang="en-US" sz="2300" spc="-1" strike="noStrike">
              <a:solidFill>
                <a:srgbClr val="000000"/>
              </a:solidFill>
              <a:latin typeface="Arial"/>
            </a:endParaRPr>
          </a:p>
          <a:p>
            <a:pPr marL="2948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ing the Questions that Count</a:t>
            </a:r>
            <a:endParaRPr b="0" lang="en-US" sz="3200" spc="-1" strike="noStrike">
              <a:solidFill>
                <a:srgbClr val="000000"/>
              </a:solidFill>
              <a:latin typeface="Arial"/>
            </a:endParaRPr>
          </a:p>
        </p:txBody>
      </p:sp>
      <p:sp>
        <p:nvSpPr>
          <p:cNvPr id="13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read the introduction and “The Essential-Questions Approac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le 1 -Data Qualit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le 2 -Data Capacit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le 3 -Data Culture</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group will share out your sectio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connections to your school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ssessment Chart &amp; Guiding Questions</a:t>
            </a:r>
            <a:endParaRPr b="0" lang="en-US" sz="3200" spc="-1" strike="noStrike">
              <a:solidFill>
                <a:srgbClr val="000000"/>
              </a:solidFill>
              <a:latin typeface="Arial"/>
            </a:endParaRPr>
          </a:p>
        </p:txBody>
      </p:sp>
      <p:sp>
        <p:nvSpPr>
          <p:cNvPr id="14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open Data assessment and Guiding Questions attachment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through char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is for principals in the States to think about the data at their sch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uiding Questions</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son(s) responsible:</a:t>
            </a:r>
            <a:endParaRPr b="0" lang="en-US" sz="32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s there a person who is assigned these tasks or is this assumed?</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oes the person have expertise in collecting and analyzing the data?</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re the data readily accessible?</a:t>
            </a:r>
            <a:endParaRPr b="0" lang="en-US" sz="23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uiding Questions</a:t>
            </a:r>
            <a:endParaRPr b="0" lang="en-US" sz="3800" spc="-1" strike="noStrike">
              <a:solidFill>
                <a:srgbClr val="000000"/>
              </a:solidFill>
              <a:latin typeface="Arial"/>
            </a:endParaRPr>
          </a:p>
        </p:txBody>
      </p:sp>
      <p:graphicFrame>
        <p:nvGraphicFramePr>
          <p:cNvPr id="144" name=""/>
          <p:cNvGraphicFramePr/>
          <p:nvPr/>
        </p:nvGraphicFramePr>
        <p:xfrm>
          <a:off x="380880" y="1066680"/>
          <a:ext cx="8001000" cy="4876920"/>
        </p:xfrm>
        <a:graphic>
          <a:graphicData uri="http://schemas.openxmlformats.org/presentationml/2006/ole">
            <p:oleObj progId="Word.Document.12" r:id="rId1" spid="">
              <p:embed/>
              <p:pic>
                <p:nvPicPr>
                  <p:cNvPr id="145" name="" descr=""/>
                  <p:cNvPicPr/>
                  <p:nvPr/>
                </p:nvPicPr>
                <p:blipFill>
                  <a:blip r:embed="rId2"/>
                  <a:stretch/>
                </p:blipFill>
                <p:spPr>
                  <a:xfrm>
                    <a:off x="380880" y="1066680"/>
                    <a:ext cx="80010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uiding Questions</a:t>
            </a:r>
            <a:endParaRPr b="0" lang="en-US" sz="3800" spc="-1" strike="noStrike">
              <a:solidFill>
                <a:srgbClr val="000000"/>
              </a:solidFill>
              <a:latin typeface="Arial"/>
            </a:endParaRPr>
          </a:p>
        </p:txBody>
      </p:sp>
      <p:graphicFrame>
        <p:nvGraphicFramePr>
          <p:cNvPr id="147" name=""/>
          <p:cNvGraphicFramePr/>
          <p:nvPr/>
        </p:nvGraphicFramePr>
        <p:xfrm>
          <a:off x="457200" y="1371600"/>
          <a:ext cx="8229600" cy="4191120"/>
        </p:xfrm>
        <a:graphic>
          <a:graphicData uri="http://schemas.openxmlformats.org/presentationml/2006/ole">
            <p:oleObj progId="Word.Document.12" r:id="rId1" spid="">
              <p:embed/>
              <p:pic>
                <p:nvPicPr>
                  <p:cNvPr id="148" name="" descr=""/>
                  <p:cNvPicPr/>
                  <p:nvPr/>
                </p:nvPicPr>
                <p:blipFill>
                  <a:blip r:embed="rId2"/>
                  <a:stretch/>
                </p:blipFill>
                <p:spPr>
                  <a:xfrm>
                    <a:off x="457200" y="1371600"/>
                    <a:ext cx="82296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uiding Questions</a:t>
            </a:r>
            <a:endParaRPr b="0" lang="en-US" sz="3800" spc="-1" strike="noStrike">
              <a:solidFill>
                <a:srgbClr val="000000"/>
              </a:solidFill>
              <a:latin typeface="Arial"/>
            </a:endParaRPr>
          </a:p>
        </p:txBody>
      </p:sp>
      <p:graphicFrame>
        <p:nvGraphicFramePr>
          <p:cNvPr id="150" name=""/>
          <p:cNvGraphicFramePr/>
          <p:nvPr/>
        </p:nvGraphicFramePr>
        <p:xfrm>
          <a:off x="457200" y="1219320"/>
          <a:ext cx="8229600" cy="5105160"/>
        </p:xfrm>
        <a:graphic>
          <a:graphicData uri="http://schemas.openxmlformats.org/presentationml/2006/ole">
            <p:oleObj progId="Word.Document.12" r:id="rId1" spid="">
              <p:embed/>
              <p:pic>
                <p:nvPicPr>
                  <p:cNvPr id="151" name="" descr=""/>
                  <p:cNvPicPr/>
                  <p:nvPr/>
                </p:nvPicPr>
                <p:blipFill>
                  <a:blip r:embed="rId2"/>
                  <a:stretch/>
                </p:blipFill>
                <p:spPr>
                  <a:xfrm>
                    <a:off x="457200" y="1219320"/>
                    <a:ext cx="82296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Assessment Activity</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 up into groups based on level</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ementary, Middle, High</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to fill out document around Language Arts/Math - might help to focus on one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on Themes</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some common themes that came out for you watching our 4 present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take-aways from the presentations that you could take back and implement in your school?</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will be the biggest obstacl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your implementation strateg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Process Model (University of Kansas)</a:t>
            </a:r>
            <a:endParaRPr b="0" lang="en-US" sz="2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Sense of Urgenc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Guiding Coali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Vision and Strategy</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the Change Vis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 Broad-Based Act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Short-Term Wi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Gai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hor New Approaches in the Cultu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ucational Improvement Class Themes</a:t>
            </a:r>
            <a:endParaRPr b="0" lang="en-US" sz="3000" spc="-1" strike="noStrike">
              <a:solidFill>
                <a:srgbClr val="000000"/>
              </a:solidFill>
              <a:latin typeface="Arial"/>
            </a:endParaRPr>
          </a:p>
        </p:txBody>
      </p:sp>
      <p:sp>
        <p:nvSpPr>
          <p:cNvPr id="10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the visio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ata, dat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 Communiti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school culture of </a:t>
            </a:r>
            <a:r>
              <a:rPr b="0" i="1" lang="en-US" sz="2800" spc="-1" strike="noStrike">
                <a:solidFill>
                  <a:srgbClr val="000000"/>
                </a:solidFill>
                <a:latin typeface="Arial"/>
              </a:rPr>
              <a:t>“continuous improvement”</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rough the Four Frames</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ructura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uman resourc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ltura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olitical</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Order Change vs. Second Order Change</a:t>
            </a:r>
            <a:endParaRPr b="0" lang="en-US" sz="32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rst-order” change is change that is consistent with prevailing values and norms, meets with general agreement, and can be implemented using people’s existing knowledge and ski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Order Change vs. Second Order Change</a:t>
            </a:r>
            <a:endParaRPr b="0" lang="en-US" sz="32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ange becomes “second-order” when it is not obvious how it will make things better, it requires people to learn new approaches, or it conflicts with prevailing values and norms. Second-order changes require leaders to work far more deeply with staff and the community. They can disrupt people’s sense of well-being and the co-operation and cohesion of the school community. They may confront and challenge expertise and competencies and throw people into states of “conscious incompe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Four Frames to Think about Data</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 Fra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sues around the HR frame are you going to need to address around data use at your school?</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part of the HR Frame can you build on at your school to help implement data use at your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Four Frames to Think about Data</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Fra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cultural issues that you need to address at your school around data use?</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part of the current culture can you build on to move toward data use at your school?</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Four Frames to Think about Data</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Fra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political issues must you address at your school to move toward data use?</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current political issues can you build on to to help implement data at your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ing the Four Frames to Think about Data</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Fra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structural issues that you need to address at your school around data use?</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current structures can you build on to help implement data use at your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Book Presentation</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work in your assigned groups to design a presentation around the book that you read</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r group should create a presentation that highlights key points in the boo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specifically your group should design an activity that will help your colleagues have a helpful takeaway or skill from the reading</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mething they could take back to their school with them</a:t>
            </a:r>
            <a:endParaRPr b="0" lang="en-US" sz="21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r presentation should be 1hour in length including time for questions</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se presentations will begin on Thursday</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s</a:t>
            </a:r>
            <a:endParaRPr b="0" lang="en-US" sz="3200" spc="-1" strike="noStrike">
              <a:solidFill>
                <a:srgbClr val="000000"/>
              </a:solidFill>
              <a:latin typeface="Arial"/>
            </a:endParaRPr>
          </a:p>
        </p:txBody>
      </p:sp>
      <p:sp>
        <p:nvSpPr>
          <p:cNvPr id="173"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ise</a:t>
            </a:r>
            <a:endParaRPr b="0" lang="en-US" sz="24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her</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e</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ff</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on</a:t>
            </a:r>
            <a:endParaRPr b="0" lang="en-US" sz="1800" spc="-1" strike="noStrike">
              <a:solidFill>
                <a:srgbClr val="000000"/>
              </a:solidFill>
              <a:latin typeface="Arial"/>
            </a:endParaRPr>
          </a:p>
          <a:p>
            <a:pPr marL="318960" indent="-31896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ping School Culture</a:t>
            </a:r>
            <a:endParaRPr b="0" lang="en-US" sz="24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nthia</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k</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y</a:t>
            </a:r>
            <a:endParaRPr b="0" lang="en-US" sz="1800" spc="-1" strike="noStrike">
              <a:solidFill>
                <a:srgbClr val="000000"/>
              </a:solidFill>
              <a:latin typeface="Arial"/>
            </a:endParaRPr>
          </a:p>
          <a:p>
            <a:pPr marL="318960" indent="-31896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ative Assessment</a:t>
            </a:r>
            <a:endParaRPr b="0" lang="en-US" sz="24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h</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h</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th</a:t>
            </a:r>
            <a:endParaRPr b="0" lang="en-US" sz="1800" spc="-1" strike="noStrike">
              <a:solidFill>
                <a:srgbClr val="000000"/>
              </a:solidFill>
              <a:latin typeface="Arial"/>
            </a:endParaRPr>
          </a:p>
          <a:p>
            <a:pPr marL="318960" indent="-31896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Common Ground</a:t>
            </a:r>
            <a:endParaRPr b="0" lang="en-US" sz="24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hie</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lvl="1" marL="690840" indent="-265680">
              <a:lnSpc>
                <a:spcPct val="9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g</a:t>
            </a:r>
            <a:endParaRPr b="0" lang="en-US" sz="1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MART Goals</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ooks for Summer</a:t>
            </a:r>
            <a:endParaRPr b="0" lang="en-US" sz="38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Roun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ing Professional Practi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book for Enhancing Professional Practi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he USF Summer Course will focus on teacher evaluation as well as the hiring, firing, and retaining of faculty and sta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on for the Use of Data</a:t>
            </a:r>
            <a:endParaRPr b="0" lang="en-US" sz="3800" spc="-1" strike="noStrike">
              <a:solidFill>
                <a:srgbClr val="000000"/>
              </a:solidFill>
              <a:latin typeface="Arial"/>
            </a:endParaRPr>
          </a:p>
        </p:txBody>
      </p:sp>
      <p:sp>
        <p:nvSpPr>
          <p:cNvPr id="10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ata effectively to make decisions is a key any schools succes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n tell us how well or not well we are accomplishing our goal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Why then does not every school leader use data or use it effectively at their school?</a:t>
            </a:r>
            <a:endParaRPr b="0" lang="en-US" sz="23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vision for data use at your school?</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you have on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D Video Clip</a:t>
            </a:r>
            <a:endParaRPr b="0" lang="en-US" sz="3800" spc="-1" strike="noStrike">
              <a:solidFill>
                <a:srgbClr val="000000"/>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jamin Zander on his vision for Classical Music</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leadership ideas come up for you in the vide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connections to data for yo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connections to professional learning communities?</a:t>
            </a:r>
            <a:endParaRPr b="0" lang="en-US" sz="3200" spc="-1" strike="noStrike">
              <a:solidFill>
                <a:srgbClr val="000000"/>
              </a:solidFill>
              <a:latin typeface="Arial"/>
            </a:endParaRPr>
          </a:p>
        </p:txBody>
      </p:sp>
      <p:sp>
        <p:nvSpPr>
          <p:cNvPr id="106" name=""/>
          <p:cNvSpPr/>
          <p:nvPr/>
        </p:nvSpPr>
        <p:spPr>
          <a:xfrm>
            <a:off x="549108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is not Inherently Sexy</a:t>
            </a:r>
            <a:endParaRPr b="0" lang="en-US" sz="3800" spc="-1" strike="noStrike">
              <a:solidFill>
                <a:srgbClr val="000000"/>
              </a:solidFill>
              <a:latin typeface="Arial"/>
            </a:endParaRPr>
          </a:p>
        </p:txBody>
      </p:sp>
      <p:sp>
        <p:nvSpPr>
          <p:cNvPr id="10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tart talking about data or data use with teachers</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ften gets:</a:t>
            </a:r>
            <a:endParaRPr b="0" lang="en-US" sz="23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lazed eyes look</a:t>
            </a:r>
            <a:endParaRPr b="0" lang="en-US" sz="21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are already successful</a:t>
            </a:r>
            <a:endParaRPr b="0" lang="en-US" sz="21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at is too much work</a:t>
            </a:r>
            <a:endParaRPr b="0" lang="en-US" sz="2100" spc="-1" strike="noStrike">
              <a:solidFill>
                <a:srgbClr val="000000"/>
              </a:solidFill>
              <a:latin typeface="Arial"/>
            </a:endParaRPr>
          </a:p>
          <a:p>
            <a:pPr lvl="2" marL="1143000" indent="-228600">
              <a:lnSpc>
                <a:spcPct val="9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a test driven model</a:t>
            </a:r>
            <a:endParaRPr b="0" lang="en-US" sz="21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y establishing a vision of </a:t>
            </a:r>
            <a:r>
              <a:rPr b="0" i="1" lang="en-US" sz="2800" spc="-1" strike="noStrike">
                <a:solidFill>
                  <a:srgbClr val="000000"/>
                </a:solidFill>
                <a:latin typeface="Arial"/>
              </a:rPr>
              <a:t>continuous improvement</a:t>
            </a:r>
            <a:r>
              <a:rPr b="0" lang="en-US" sz="2800" spc="-1" strike="noStrike">
                <a:solidFill>
                  <a:srgbClr val="000000"/>
                </a:solidFill>
                <a:latin typeface="Arial"/>
              </a:rPr>
              <a:t> around data takes time</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learning our unfounded beliefs about data</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t Your School?</a:t>
            </a:r>
            <a:endParaRPr b="0" lang="en-US" sz="36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your tables brainstorm out the data you currently collect</a:t>
            </a:r>
            <a:endParaRPr b="0" lang="en-US" sz="32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do you collect as a school?</a:t>
            </a:r>
            <a:endParaRPr b="0" lang="en-US" sz="27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matters to you?</a:t>
            </a:r>
            <a:endParaRPr b="0" lang="en-US" sz="27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matters to teachers?</a:t>
            </a:r>
            <a:endParaRPr b="0" lang="en-US" sz="27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matters to students?</a:t>
            </a:r>
            <a:endParaRPr b="0" lang="en-US" sz="2700" spc="-1" strike="noStrike">
              <a:solidFill>
                <a:srgbClr val="000000"/>
              </a:solidFill>
              <a:latin typeface="Arial"/>
            </a:endParaRPr>
          </a:p>
          <a:p>
            <a:pPr lvl="1" marL="743040" indent="-285840">
              <a:lnSpc>
                <a:spcPct val="90000"/>
              </a:lnSpc>
              <a:spcBef>
                <a:spcPts val="675"/>
              </a:spcBef>
              <a:spcAft>
                <a:spcPts val="1001"/>
              </a:spcAft>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What data is a waist of time?</a:t>
            </a:r>
            <a:r>
              <a:rPr b="0" i="1"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D Video Clip</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colm Gladwell talking about data and spaghetti sauce</a:t>
            </a:r>
            <a:endParaRPr b="0" lang="en-US" sz="3200" spc="-1" strike="noStrike">
              <a:solidFill>
                <a:srgbClr val="000000"/>
              </a:solidFill>
              <a:latin typeface="Arial"/>
            </a:endParaRPr>
          </a:p>
          <a:p>
            <a:pPr lvl="2" marL="1143000" indent="-228600">
              <a:lnSpc>
                <a:spcPct val="100000"/>
              </a:lnSpc>
              <a:spcBef>
                <a:spcPts val="575"/>
              </a:spcBef>
              <a:spcAft>
                <a:spcPts val="1001"/>
              </a:spcAft>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What thoughts come to your mind about data after watching this video?</a:t>
            </a:r>
            <a:endParaRPr b="0" lang="en-US" sz="2300" spc="-1" strike="noStrike">
              <a:solidFill>
                <a:srgbClr val="000000"/>
              </a:solidFill>
              <a:latin typeface="Arial"/>
            </a:endParaRPr>
          </a:p>
          <a:p>
            <a:pPr lvl="2" marL="1143000" indent="-228600">
              <a:lnSpc>
                <a:spcPct val="100000"/>
              </a:lnSpc>
              <a:spcBef>
                <a:spcPts val="575"/>
              </a:spcBef>
              <a:spcAft>
                <a:spcPts val="1001"/>
              </a:spcAft>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How are we thinking about student’s learning in relation to assessments?</a:t>
            </a:r>
            <a:endParaRPr b="0" lang="en-US" sz="2300" spc="-1" strike="noStrike">
              <a:solidFill>
                <a:srgbClr val="000000"/>
              </a:solidFill>
              <a:latin typeface="Arial"/>
            </a:endParaRPr>
          </a:p>
          <a:p>
            <a:pPr lvl="2" marL="1143000" indent="-228600">
              <a:lnSpc>
                <a:spcPct val="100000"/>
              </a:lnSpc>
              <a:spcBef>
                <a:spcPts val="575"/>
              </a:spcBef>
              <a:spcAft>
                <a:spcPts val="1001"/>
              </a:spcAft>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What data are we not collecting?</a:t>
            </a:r>
            <a:endParaRPr b="0" lang="en-US" sz="2300" spc="-1" strike="noStrike">
              <a:solidFill>
                <a:srgbClr val="000000"/>
              </a:solidFill>
              <a:latin typeface="Arial"/>
            </a:endParaRPr>
          </a:p>
          <a:p>
            <a:pPr lvl="2" marL="1143000" indent="-228600">
              <a:lnSpc>
                <a:spcPct val="100000"/>
              </a:lnSpc>
              <a:spcBef>
                <a:spcPts val="575"/>
              </a:spcBef>
              <a:spcAft>
                <a:spcPts val="1001"/>
              </a:spcAft>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Data----Diversity</a:t>
            </a:r>
            <a:endParaRPr b="0" lang="en-US" sz="23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ge in Paradigms</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ssessment for learning</a:t>
            </a:r>
            <a:r>
              <a:rPr b="0" lang="en-US" sz="3200" spc="-1" strike="noStrike">
                <a:solidFill>
                  <a:srgbClr val="000000"/>
                </a:solidFill>
                <a:latin typeface="Arial"/>
              </a:rPr>
              <a:t> as opposed to </a:t>
            </a:r>
            <a:r>
              <a:rPr b="1" i="1" lang="en-US" sz="3200" spc="-1" strike="noStrike">
                <a:solidFill>
                  <a:srgbClr val="000000"/>
                </a:solidFill>
                <a:latin typeface="Arial"/>
              </a:rPr>
              <a:t>assessment of learning</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This is very different way of doing busines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11:43:51Z</dcterms:created>
  <dc:creator>USF User</dc:creator>
  <dc:description/>
  <dc:language>en-US</dc:language>
  <cp:lastModifiedBy>USF User</cp:lastModifiedBy>
  <dcterms:modified xsi:type="dcterms:W3CDTF">2010-03-27T04:55:15Z</dcterms:modified>
  <cp:revision>28</cp:revision>
  <dc:subject/>
  <dc:title>EARCOS Spring 2010</dc:title>
</cp:coreProperties>
</file>